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7FC-E820-49C6-A933-6E01658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E41-6B71-4592-9521-8EB6E3D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114-F47E-4309-BBB2-6CCC5F8C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B0E-38B3-49AA-9C62-4F79E11E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72E-8F29-4FAC-B24F-2753C8FC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667F-EA84-469F-8A20-D42F277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4854-4C2D-461D-8D4B-752FC0E6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6C9-D7E8-4EAB-B27B-1BBD9EF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4CE-CF4D-425A-9388-DEA0D93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BCE9-6A6C-4C6A-B518-CCDB033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F3C3-8B09-4C03-A0E0-1379576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99B-A945-478A-926B-80336DB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F4FC-DE38-4AB9-AB2C-BF0ACE5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46A-2B16-4EEA-82D6-BAC6D50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2BC2-A85B-4DAA-B1DA-F598C2B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464-E496-4A6E-9B1F-C827DC2B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9E6-C08C-4D49-806D-08AB06C4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4E4-F99E-4DDD-9708-302C45A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FF7-7F80-4480-A4F5-E58E9ACE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340-C729-4D64-836B-DE63A0A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694-BC75-4161-8402-A841461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1F8-F5E0-47D6-907E-E6439ED8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B7B-406C-451C-B128-3CD0F03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C46-F468-4E38-9182-7C26DE2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DF25-CC92-428A-80B8-4F2AFAF20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7ED-B7B4-4026-B6FB-44E2D78B9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0bb1"/>
                </a:solidFill>
                <a:latin typeface="Arial Black"/>
              </a:rPr>
              <a:t>Nothing but ne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bb1"/>
                </a:solidFill>
                <a:latin typeface="Arial"/>
              </a:rPr>
              <a:t>By; Tarra Eid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Probl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angle of you arm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hen shooting) have an effect on the way the ball goes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Intr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son I wanted to test over the angle is because sometime I shoot and my arm is down and not up and fallowed  through like it should b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hypothe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 think that the angle of your arm does mat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 court, hoop and back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 players to shoot bas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d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going to pick a location (new gy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am going to get my sho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am going to video tape them while they sho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 am going to start my testing I will get my 4 people and let them shoot 5 practice shots and then they will shoot 10 really shots. ONLY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I tested my people and I thought that I did ok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my testing is done and I was some what right. Your arm does have an effect on they way you shoot. and then again it does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ssible Cause of Err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41:33Z</dcterms:created>
  <dc:creator>student</dc:creator>
  <dc:description/>
  <dc:language>en-US</dc:language>
  <cp:lastModifiedBy>USD376</cp:lastModifiedBy>
  <dcterms:modified xsi:type="dcterms:W3CDTF">2012-03-08T21:10:44Z</dcterms:modified>
  <cp:revision>3</cp:revision>
  <dc:subject/>
  <dc:title>Nothing but net</dc:title>
</cp:coreProperties>
</file>